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128-00F6-4218-A252-A7E80CE9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E5B-B50E-4B67-916C-B91D461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CEEB-5C35-4C3E-BEFB-230D49AAF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73E-5C84-4654-B8C4-5E5CF9FAC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ABAE-4691-4F12-B38F-CF1F8086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012D-C5F4-4D96-84A0-2E4B9B19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ED2C-3FA0-4FFF-8C0D-3BBB389A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9B2-0933-4EB9-BA03-213DADB4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B482-5861-4908-8FFE-89BEB04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5C43-7BCA-465B-A76E-57A25C46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17BF-1B09-48B1-AB5D-BD5B5F38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063C-7098-4214-A440-9F71176F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6C0D-A830-487D-8C56-2C00C85F1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5000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mburger Paragrap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4191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rite a re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paragrap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505320" y="2438280"/>
            <a:ext cx="2133360" cy="15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380880" y="1981080"/>
            <a:ext cx="3429000" cy="838440"/>
          </a:xfrm>
          <a:custGeom>
            <a:avLst/>
            <a:gdLst>
              <a:gd name="textAreaLeft" fmla="*/ 54360 w 3429000"/>
              <a:gd name="textAreaRight" fmla="*/ 3374640 w 34290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88310" h="21600">
                <a:moveTo>
                  <a:pt x="0" y="0"/>
                </a:moveTo>
                <a:lnTo>
                  <a:pt x="88310" y="0"/>
                </a:lnTo>
                <a:lnTo>
                  <a:pt x="88310" y="21600"/>
                </a:lnTo>
                <a:lnTo>
                  <a:pt x="0" y="21600"/>
                </a:lnTo>
                <a:close/>
              </a:path>
              <a:path fill="lightenLess" w="88310" h="21600">
                <a:moveTo>
                  <a:pt x="0" y="0"/>
                </a:moveTo>
                <a:lnTo>
                  <a:pt x="88310" y="0"/>
                </a:lnTo>
                <a:lnTo>
                  <a:pt x="86910" y="1400"/>
                </a:lnTo>
                <a:lnTo>
                  <a:pt x="1400" y="1400"/>
                </a:lnTo>
                <a:close/>
              </a:path>
              <a:path fill="darken" w="88310" h="21600">
                <a:moveTo>
                  <a:pt x="88310" y="0"/>
                </a:moveTo>
                <a:lnTo>
                  <a:pt x="88310" y="21600"/>
                </a:lnTo>
                <a:lnTo>
                  <a:pt x="86910" y="20200"/>
                </a:lnTo>
                <a:lnTo>
                  <a:pt x="86910" y="1400"/>
                </a:lnTo>
                <a:close/>
              </a:path>
              <a:path fill="darkenLess" w="88310" h="21600">
                <a:moveTo>
                  <a:pt x="88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910" y="20200"/>
                </a:lnTo>
                <a:close/>
              </a:path>
              <a:path fill="lighten" w="88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2895480"/>
            <a:ext cx="2667240" cy="762120"/>
          </a:xfrm>
          <a:custGeom>
            <a:avLst/>
            <a:gdLst>
              <a:gd name="textAreaLeft" fmla="*/ 49320 w 2667240"/>
              <a:gd name="textAreaRight" fmla="*/ 2617920 w 26672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5569" h="21600">
                <a:moveTo>
                  <a:pt x="0" y="0"/>
                </a:moveTo>
                <a:lnTo>
                  <a:pt x="75569" y="0"/>
                </a:lnTo>
                <a:lnTo>
                  <a:pt x="75569" y="21600"/>
                </a:lnTo>
                <a:lnTo>
                  <a:pt x="0" y="21600"/>
                </a:lnTo>
                <a:close/>
              </a:path>
              <a:path fill="lightenLess" w="75569" h="21600">
                <a:moveTo>
                  <a:pt x="0" y="0"/>
                </a:moveTo>
                <a:lnTo>
                  <a:pt x="75569" y="0"/>
                </a:lnTo>
                <a:lnTo>
                  <a:pt x="74169" y="1400"/>
                </a:lnTo>
                <a:lnTo>
                  <a:pt x="1400" y="1400"/>
                </a:lnTo>
                <a:close/>
              </a:path>
              <a:path fill="darken" w="75569" h="21600">
                <a:moveTo>
                  <a:pt x="75569" y="0"/>
                </a:moveTo>
                <a:lnTo>
                  <a:pt x="75569" y="21600"/>
                </a:lnTo>
                <a:lnTo>
                  <a:pt x="74169" y="20200"/>
                </a:lnTo>
                <a:lnTo>
                  <a:pt x="74169" y="1400"/>
                </a:lnTo>
                <a:close/>
              </a:path>
              <a:path fill="darkenLess" w="75569" h="21600">
                <a:moveTo>
                  <a:pt x="75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69" y="20200"/>
                </a:lnTo>
                <a:close/>
              </a:path>
              <a:path fill="lighten" w="75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3962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4343400"/>
            <a:ext cx="3276720" cy="838080"/>
          </a:xfrm>
          <a:custGeom>
            <a:avLst/>
            <a:gdLst>
              <a:gd name="textAreaLeft" fmla="*/ 54000 w 3276720"/>
              <a:gd name="textAreaRight" fmla="*/ 3222720 w 32767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84425" h="21600">
                <a:moveTo>
                  <a:pt x="0" y="0"/>
                </a:moveTo>
                <a:lnTo>
                  <a:pt x="84425" y="0"/>
                </a:lnTo>
                <a:lnTo>
                  <a:pt x="84425" y="21600"/>
                </a:lnTo>
                <a:lnTo>
                  <a:pt x="0" y="21600"/>
                </a:lnTo>
                <a:close/>
              </a:path>
              <a:path fill="lightenLess" w="84425" h="21600">
                <a:moveTo>
                  <a:pt x="0" y="0"/>
                </a:moveTo>
                <a:lnTo>
                  <a:pt x="84425" y="0"/>
                </a:lnTo>
                <a:lnTo>
                  <a:pt x="83025" y="1400"/>
                </a:lnTo>
                <a:lnTo>
                  <a:pt x="1400" y="1400"/>
                </a:lnTo>
                <a:close/>
              </a:path>
              <a:path fill="darken" w="84425" h="21600">
                <a:moveTo>
                  <a:pt x="84425" y="0"/>
                </a:moveTo>
                <a:lnTo>
                  <a:pt x="84425" y="21600"/>
                </a:lnTo>
                <a:lnTo>
                  <a:pt x="83025" y="20200"/>
                </a:lnTo>
                <a:lnTo>
                  <a:pt x="83025" y="1400"/>
                </a:lnTo>
                <a:close/>
              </a:path>
              <a:path fill="darkenLess" w="84425" h="21600">
                <a:moveTo>
                  <a:pt x="844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3025" y="20200"/>
                </a:lnTo>
                <a:close/>
              </a:path>
              <a:path fill="lighten" w="844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5257800" cy="990720"/>
          </a:xfrm>
          <a:custGeom>
            <a:avLst/>
            <a:gdLst>
              <a:gd name="textAreaLeft" fmla="*/ 64080 w 5257800"/>
              <a:gd name="textAreaRight" fmla="*/ 5193720 w 52578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114598" h="21600">
                <a:moveTo>
                  <a:pt x="0" y="0"/>
                </a:moveTo>
                <a:lnTo>
                  <a:pt x="114598" y="0"/>
                </a:lnTo>
                <a:lnTo>
                  <a:pt x="114598" y="21600"/>
                </a:lnTo>
                <a:lnTo>
                  <a:pt x="0" y="21600"/>
                </a:lnTo>
                <a:close/>
              </a:path>
              <a:path fill="lightenLess" w="114598" h="21600">
                <a:moveTo>
                  <a:pt x="0" y="0"/>
                </a:moveTo>
                <a:lnTo>
                  <a:pt x="114598" y="0"/>
                </a:lnTo>
                <a:lnTo>
                  <a:pt x="113199" y="1400"/>
                </a:lnTo>
                <a:lnTo>
                  <a:pt x="1400" y="1400"/>
                </a:lnTo>
                <a:close/>
              </a:path>
              <a:path fill="darken" w="114598" h="21600">
                <a:moveTo>
                  <a:pt x="114598" y="0"/>
                </a:moveTo>
                <a:lnTo>
                  <a:pt x="114598" y="21600"/>
                </a:lnTo>
                <a:lnTo>
                  <a:pt x="113199" y="20200"/>
                </a:lnTo>
                <a:lnTo>
                  <a:pt x="113199" y="1400"/>
                </a:lnTo>
                <a:close/>
              </a:path>
              <a:path fill="darkenLess" w="114598" h="21600">
                <a:moveTo>
                  <a:pt x="114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199" y="20200"/>
                </a:lnTo>
                <a:close/>
              </a:path>
              <a:path fill="lighten" w="114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924680" y="5915160"/>
            <a:ext cx="1219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lick on me to learn about good paragraph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Topic Sentence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(Top B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ery first sentence of your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eds to be inden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ells what your paragraph is going to be ab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160020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1676520"/>
            <a:ext cx="38862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all is the best season of the year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First of all, I love fall because the leaves change colour.  Another reason is the temperature is just right for playing outdoors.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2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0"/>
            <a:ext cx="7315200" cy="6842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First Detail (Lettu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topic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delicious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00600" y="160020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rst of all, I love fall because the leaves change colour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Another reason is the temperature is just right for playing outdoors.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cond Detail (Tomat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till shoul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be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follow directly after the lettuce sent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juic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60020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Another reason is the temperature is just right for playing outdoors.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Finally, we celebrate Hallowe’en in the fall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12085" t="21428" r="8293" b="0"/>
          <a:stretch/>
        </p:blipFill>
        <p:spPr>
          <a:xfrm>
            <a:off x="0" y="-3816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Last Detail (Mea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nally!!  The most important det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ould start differently than the other sent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eeds to be full of good, “meaty” detail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00600" y="144792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00200"/>
            <a:ext cx="403848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Another reason is the temperature is just right for playing outdoors.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Finally, we celebrate Hallowe’en in the fal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 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2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12242" t="23062" r="12242" b="25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Closing Senten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Bottom Bu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hould look a lot like the topic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eds to summarize the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eeds to be an obvious end to the paragrap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029200" y="18288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1523880"/>
            <a:ext cx="4114800" cy="45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1752480"/>
            <a:ext cx="40384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all is the best season of the year.  First of all, I love fall because the leaves change colour.  Another reason is the temperature is just right for playing outdoors.  Finally, we celebrate Hallowe’en in the fall.  </a:t>
            </a:r>
            <a:r>
              <a:rPr b="1" lang="en-US" sz="2100" spc="-1" strike="noStrike">
                <a:solidFill>
                  <a:srgbClr val="ff0000"/>
                </a:solidFill>
                <a:latin typeface="Arial"/>
              </a:rPr>
              <a:t>These are just a few reasons why Fall is the best seaso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6248520"/>
            <a:ext cx="9144000" cy="380880"/>
          </a:xfrm>
          <a:custGeom>
            <a:avLst/>
            <a:gdLst>
              <a:gd name="textAreaLeft" fmla="*/ 24480 w 9144000"/>
              <a:gd name="textAreaRight" fmla="*/ 9119520 w 9144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094" h="21600">
                <a:moveTo>
                  <a:pt x="0" y="0"/>
                </a:moveTo>
                <a:lnTo>
                  <a:pt x="518094" y="0"/>
                </a:lnTo>
                <a:lnTo>
                  <a:pt x="518094" y="21600"/>
                </a:lnTo>
                <a:lnTo>
                  <a:pt x="0" y="21600"/>
                </a:lnTo>
                <a:close/>
              </a:path>
              <a:path fill="lightenLess" w="518094" h="21600">
                <a:moveTo>
                  <a:pt x="0" y="0"/>
                </a:moveTo>
                <a:lnTo>
                  <a:pt x="518094" y="0"/>
                </a:lnTo>
                <a:lnTo>
                  <a:pt x="516694" y="1400"/>
                </a:lnTo>
                <a:lnTo>
                  <a:pt x="1400" y="1400"/>
                </a:lnTo>
                <a:close/>
              </a:path>
              <a:path fill="darken" w="518094" h="21600">
                <a:moveTo>
                  <a:pt x="518094" y="0"/>
                </a:moveTo>
                <a:lnTo>
                  <a:pt x="518094" y="21600"/>
                </a:lnTo>
                <a:lnTo>
                  <a:pt x="516694" y="20200"/>
                </a:lnTo>
                <a:lnTo>
                  <a:pt x="516694" y="1400"/>
                </a:lnTo>
                <a:close/>
              </a:path>
              <a:path fill="darkenLess" w="518094" h="21600">
                <a:moveTo>
                  <a:pt x="5180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6694" y="20200"/>
                </a:lnTo>
                <a:close/>
              </a:path>
              <a:path fill="lighten" w="5180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see a good paragraph on the we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1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2:48:17Z</dcterms:created>
  <dc:creator>p1017404</dc:creator>
  <dc:description/>
  <dc:language>en-US</dc:language>
  <cp:lastModifiedBy>Teacher</cp:lastModifiedBy>
  <dcterms:modified xsi:type="dcterms:W3CDTF">2008-10-23T14:44:58Z</dcterms:modified>
  <cp:revision>10</cp:revision>
  <dc:subject/>
  <dc:title>Hamburger Paragraphs</dc:title>
</cp:coreProperties>
</file>